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CBCD-285E-4C33-95D3-993CF11A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171E-022B-42C9-A12F-30A914F1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67E5-1FB6-4BBA-8EE4-928E53D5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8A8F-60EC-4611-9E70-5D8B28180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FA3A-F997-41D3-8CDC-0C752A6A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F9EA-83B2-4608-A7D2-0D443A9B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D4AD-0E46-4DFB-A6A8-2ED40402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06F9-A3E4-462E-A05F-25DAD970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7799-392A-4A0C-A514-AD72E62C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4375-BA33-4DA2-99E4-73FED475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D1F6-3F57-4A29-9EDF-D8740024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80B4-B532-4B2B-B369-A0C84A5A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E58C-8048-49A8-A36C-FFB4E766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FA17-5381-497A-9F3A-36AD765E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0F2B-8A75-4598-A662-0A596410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5757-D4D5-4E82-BA7A-740A59486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EF70-2FE8-4223-951E-FB8E41DD1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AC89-E69E-421E-93BE-8C5894FD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F6A5-F8E3-44E5-8197-523B66B7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4690-C024-4033-8416-B941CACB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A952-053D-4396-973D-BD1EFB47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8162-5E70-4D59-9879-95948FED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4B25-A2A9-4536-A68E-93C6DEA4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2E08-A329-4461-8A75-A1069296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DED2-5EE6-4859-B6FA-4A0C219C77D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42E3-9F87-4D27-858A-A2546054782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eyond Story Time: Planning Effective Read-Alou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rianna Trube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ctober 12, 201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ocus of the Research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ad-alouds have been proven to greatly impact student comprehension, vocabulary development, motivation, and engagement with the text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w does a teacher plan an effective read-aloud that contains all of these ideas?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dwards-Santoro, Chard, Howard, &amp; Baker (2008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ad-alouds must be carefully planned if they are to affect students’ comprehension in a positive way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und that enhancing read-alouds with comprehension strategies showed improvement in student comprehension, vocabulary knowledge, and retelling skill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ading books to the whole class allowed the teacher to introduce words in a “teacher-centered approach”, so that all students receive the same information about a specific wor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indle (2009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cused her study on vocabulary development during read-aloud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way books are shared with children matters” (p. 203). Effective read-alouds include teacher media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udents need conceptual knowledge to make connections between new words, their prior experiences, and previously learned words and concepts” (p.205)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rison &amp; Wlodarczyk (2009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ading texts aloud is the single most important activity for building the knowledge required for successful reading” (p. 111)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udy showed that there is a connection between proficient readers and text engagement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cused on strategies that encourage student engagement with the text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w Understanding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ook selection is critical to planning an effective read-alou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acher mediation is key. Asking questions, modeling how to make connections, and facilitating word learning are just a few of the ways teachers can interact with students during a read-alou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commendations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ad-alouds take time to pla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is more than pulling a book off of the shelf and reading it. Unless, you are strictly reading for enjoyment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ith so little time for instruction, a read-aloud can be a great way to teach new ideas to your studen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3:05:08Z</dcterms:created>
  <dc:creator>Miss Bri</dc:creator>
  <dc:description/>
  <dc:language>en-US</dc:language>
  <cp:lastModifiedBy>Miss Bri</cp:lastModifiedBy>
  <dcterms:modified xsi:type="dcterms:W3CDTF">2010-10-12T03:59:45Z</dcterms:modified>
  <cp:revision>7</cp:revision>
  <dc:subject/>
  <dc:title>Beyond Story Time: Planning Effective Read-Alouds</dc:title>
</cp:coreProperties>
</file>